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90A-72C3-4AB3-BBF1-4BDC18EB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258-DA61-43C9-9FB6-8B5EE240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CF1-2CD5-4662-A77A-28CF4BD7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4CA-9C7E-445A-A73F-E7041AA3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7B0C-BD28-4C6F-81DF-431649E6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EEDC-9989-46D5-9EB2-35887C83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3FC1-6AD5-459A-BD51-D18D48F1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28C4-063A-4759-A7A9-C2713970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24E9-25C3-4EA1-ADF1-1F15A427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8C27-F480-4EBD-9AB1-48EBB65B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7578-F3A2-432B-A6A0-1A1BFC52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EA3-9C19-4E95-85CB-6D979023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E6C2-E814-4058-B1DE-9DA10C58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572F-5569-44D8-B1BB-7E494788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B801-544D-424C-B409-A97A37C0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93FA-67E6-4AF2-8EBB-B17CA936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EC01-4E93-4F88-8981-44C08A0D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86B-A949-49A1-B09F-E0C61DAC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371-CF75-475A-8D50-C8EFC823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1C9-13F3-4DDB-90A4-BCB8590F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FC4-6867-4114-AC28-E3336D5E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883-46DD-418B-AAE8-C0E658D1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7E0-8F27-4C38-BDFC-50D2E784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CA7-7E70-4724-88CA-228FA47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2131-8EAD-4EC0-80C3-8ADC4BB3536C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A5A1-5B4C-4B2C-95DC-58F0819ED18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many seas is Great Britain washed by?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 flipV="1" rot="10800000">
            <a:off x="5943600" y="5271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3657240"/>
            <a:ext cx="34416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wo se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5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